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97667"/>
        <c:axId val="10822053"/>
      </c:barChart>
      <c:catAx>
        <c:axId val="73397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22053"/>
        <c:crosses val="autoZero"/>
        <c:auto val="1"/>
        <c:lblAlgn val="ctr"/>
        <c:lblOffset val="100"/>
        <c:noMultiLvlLbl val="0"/>
      </c:catAx>
      <c:valAx>
        <c:axId val="10822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97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08D-4195-4724-B8CF-7B802D99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F8B-A107-489C-AF02-0A91FD1F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7B3-0BEE-4056-976A-3E014EF6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ED51-3BA3-4415-8734-292D7A81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1CC-0D9E-4718-A19D-CBBAEB0B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D1A-95CF-422E-BF5D-83D09829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E6C-2F84-4401-B910-435A5C33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E62-22F9-486F-B460-4853F030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C2D-2BF1-49AB-8B0B-D6B18BDB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97D-2DC4-4D43-9939-99383047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5E0-5F24-498E-B8E2-2F6D2C32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684-AE12-49A7-B107-EB672853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4F09A-EB73-4FCE-8FBA-E8B3B97ADF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