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630"/>
        <c:axId val="13566651"/>
      </c:barChart>
      <c:catAx>
        <c:axId val="572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6651"/>
        <c:crosses val="autoZero"/>
        <c:auto val="1"/>
        <c:lblAlgn val="ctr"/>
        <c:lblOffset val="100"/>
        <c:noMultiLvlLbl val="0"/>
      </c:catAx>
      <c:valAx>
        <c:axId val="13566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0E0-4FE0-49BE-9EDF-3074F44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A49-EB48-4823-8858-3895E64C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98C-E974-4A16-8A2B-F95A9896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BFE-A228-4DCA-ABD5-ED0634E5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128-81E0-4FC1-92BD-95DCE03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363-E2DF-496B-9863-31AD622D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7C8-6A9A-404B-902F-86ADDC9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D15-4021-45E2-BA39-0BC2130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884-3F9E-4EC1-9E36-6399AD2E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182-74F0-43BA-B905-2396D61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AAF-9FA4-475E-92B5-FA8A4879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3B0-53D4-4AC0-A4BD-F67B058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1FB9A-FA7B-403E-8004-D64663FC2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